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103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D0D2-9BA5-44D3-BA68-E634B8E9826D}" type="slidenum">
              <a:rPr b="0" lang="en-N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618E-DEC2-4F50-AB65-03B1CEF1F6B9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8415-1765-42BE-9273-EC56A86C7B76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7CCC-217F-4754-ACA9-4B75048B305D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A08C-2A5B-4FAD-91E7-86B0C48C6210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EB76-9D66-4D28-8BD9-51238627CC23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ED60-0741-4B5C-A6CC-2A0B986A9B26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0DE6-308C-4C72-A5C8-D21B64E6ED31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CF93-63B2-4A7B-A235-FA7704825F66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2CB2-585B-430E-A42A-A6388253F6F4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2B04-76D0-44CE-8C73-B6C8C1271222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5B25-436D-4D3A-9A88-F5DB044B5E6F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3633-976B-4FF3-8D94-55BD18E7BFA8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35B8-AEEA-4AC8-AEF6-BCB0B269CEDA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539E-DD94-4D05-8D4F-B7E3AAAD25FF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88C2-04E3-4616-A1C3-9AC2CD1CC2F6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FDC7-89A6-43BC-B039-DBB95D4B7F29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FE22-2109-4315-B8C9-E36903F2AF70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FFF7-F7CF-4ECA-ABC9-F2FF45EB2E6B}" type="slidenum">
              <a:rPr b="0" lang="en-NZ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AE8E-8A7F-4833-9DF2-20DB250D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702E-F09C-47FC-96E7-FF158A4E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5202-C11F-4B9C-800C-96E1AC32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A4A0-9C78-463E-AA4E-F18F9B69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7499-B380-422C-8C0A-45B48CF7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5F8B-4894-45D6-9E21-C1E3E83E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6A03-6112-4FBC-B79F-A2BCE42B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36C7-69A6-413E-B901-FBF06915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DFA1-4A07-4E15-9407-2F9DF16A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31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4B25-1F80-48EB-9643-B53FFE24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0B5C-F1A4-43AD-BE88-5ACC28EB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35F1-AA52-43F1-91B7-0C09F7E6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7C35-8C49-4FBB-A4FA-EFE60EE5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2204-A38C-43F2-816B-A5053F1B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BFA9-BD36-4314-A70F-C72CE2DF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B550-E584-4C29-98A2-4FF0A7F7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21F2-1040-452A-B0D1-213A2E59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89A1-8E94-4BDC-BB28-DA3CEF43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08BF-7E87-4460-8E1F-4CC9C153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A714-C2C2-4BA1-8EE4-8FCAF798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31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6B9E-9B24-4614-B7EE-DA2E79D9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C177-0088-4821-8436-9DCF797A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8DBD-9813-41F8-9960-20516DD2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F6D0-A026-4CF0-BEDB-1AAE741C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480"/>
                  <a:chOff x="7834680" y="842760"/>
                  <a:chExt cx="1064160" cy="114048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452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000" y="1602000"/>
                    <a:ext cx="4741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680"/>
                    <a:ext cx="42516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9800"/>
                    <a:ext cx="72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5920"/>
                    <a:ext cx="634320" cy="10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240" y="456120"/>
                    <a:ext cx="34128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5400"/>
                  <a:ext cx="1063080" cy="1141920"/>
                  <a:chOff x="6538320" y="905400"/>
                  <a:chExt cx="106308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840" y="1194120"/>
                    <a:ext cx="8816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6680" y="1665360"/>
                    <a:ext cx="47340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600" y="861480"/>
                  <a:ext cx="1266120" cy="1051920"/>
                  <a:chOff x="6303600" y="86148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2988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4982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680" y="826920"/>
                  <a:ext cx="1288080" cy="828720"/>
                  <a:chOff x="6286680" y="826920"/>
                  <a:chExt cx="128808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20480"/>
                    <a:ext cx="477360" cy="24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480" cy="668520"/>
                  <a:chOff x="6273720" y="787320"/>
                  <a:chExt cx="13024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2480"/>
                    <a:ext cx="461520" cy="26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9920"/>
                    <a:ext cx="425160" cy="247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9800"/>
                    <a:ext cx="7203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080" cy="628200"/>
                  <a:chOff x="6752520" y="221760"/>
                  <a:chExt cx="90108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600"/>
                  <a:ext cx="465480" cy="809640"/>
                  <a:chOff x="7287840" y="-21600"/>
                  <a:chExt cx="46548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880" y="59760"/>
                    <a:ext cx="2937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880"/>
                  <a:ext cx="963720" cy="461880"/>
                  <a:chOff x="7792920" y="272880"/>
                  <a:chExt cx="963720" cy="46188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0240" y="329400"/>
                    <a:ext cx="33624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560" cy="604080"/>
                  <a:chOff x="7737480" y="136800"/>
                  <a:chExt cx="916560" cy="60408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5840" y="212760"/>
                    <a:ext cx="3376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520"/>
                  <a:ext cx="497160" cy="790920"/>
                  <a:chOff x="7665840" y="-11520"/>
                  <a:chExt cx="49716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600" y="465840"/>
                    <a:ext cx="54396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4760" cy="1248480"/>
                  <a:chOff x="6710760" y="929880"/>
                  <a:chExt cx="91476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74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592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680" cy="1248480"/>
                  <a:chOff x="701532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480" y="1308960"/>
                    <a:ext cx="82080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360"/>
                    <a:ext cx="75348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080"/>
                    <a:ext cx="40608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480"/>
                    <a:ext cx="73800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880"/>
                    <a:ext cx="39528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9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60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9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103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8146-F4F7-4BD1-88A6-8C483CEF856F}" type="slidenum">
              <a:rPr b="0" lang="en-NZ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5160"/>
            <a:ext cx="6895800" cy="5452200"/>
            <a:chOff x="201132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5800"/>
              <a:ext cx="945720" cy="709560"/>
              <a:chOff x="3484080" y="9558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58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75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5160"/>
              <a:ext cx="6895800" cy="5452200"/>
              <a:chOff x="201132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5160"/>
                <a:ext cx="6890760" cy="5452200"/>
                <a:chOff x="2011320" y="245160"/>
                <a:chExt cx="689076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480"/>
                  <a:ext cx="3599280" cy="2650680"/>
                  <a:chOff x="3735720" y="1266480"/>
                  <a:chExt cx="3599280" cy="26506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48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52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5160"/>
                  <a:ext cx="6890760" cy="5452200"/>
                  <a:chOff x="2011320" y="245160"/>
                  <a:chExt cx="689076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360" y="2323080"/>
                    <a:ext cx="2559960" cy="2740320"/>
                    <a:chOff x="5760360" y="2323080"/>
                    <a:chExt cx="2559960" cy="274032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880" y="3020760"/>
                      <a:ext cx="21276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396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360" y="2147040"/>
                    <a:ext cx="3040200" cy="2530440"/>
                    <a:chOff x="5787360" y="2147040"/>
                    <a:chExt cx="3040200" cy="25304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0400"/>
                      <a:ext cx="2235600" cy="426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2096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2440"/>
                    <a:ext cx="3097800" cy="1994400"/>
                    <a:chOff x="5774760" y="2062440"/>
                    <a:chExt cx="3097800" cy="19944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18200"/>
                      <a:ext cx="214056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504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8840"/>
                    <a:ext cx="3134160" cy="1608120"/>
                    <a:chOff x="5767920" y="1968840"/>
                    <a:chExt cx="313416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080"/>
                      <a:ext cx="2067480" cy="413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128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8120"/>
                    <a:ext cx="2938680" cy="1002240"/>
                    <a:chOff x="5806080" y="1878120"/>
                    <a:chExt cx="293868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412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112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3680"/>
                    <a:ext cx="2658960" cy="444960"/>
                    <a:chOff x="5851080" y="181368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49320"/>
                      <a:ext cx="1730880" cy="271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2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4640"/>
                    <a:ext cx="2364120" cy="784080"/>
                    <a:chOff x="5788440" y="1304640"/>
                    <a:chExt cx="236412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0960"/>
                      <a:ext cx="152028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3200"/>
                      <a:ext cx="81648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000" y="2472120"/>
                    <a:ext cx="2557080" cy="2742840"/>
                    <a:chOff x="2646000" y="2472120"/>
                    <a:chExt cx="2557080" cy="274284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320" y="3169440"/>
                      <a:ext cx="212652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000" y="429480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5920"/>
                    <a:ext cx="3039120" cy="2531520"/>
                    <a:chOff x="2084760" y="2365920"/>
                    <a:chExt cx="3039120" cy="25315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8560"/>
                      <a:ext cx="2234160" cy="429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0560"/>
                      <a:ext cx="1199880" cy="672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040"/>
                    <a:ext cx="3096360" cy="1991880"/>
                    <a:chOff x="2040840" y="2282040"/>
                    <a:chExt cx="3096360" cy="199188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780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12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87000"/>
                    <a:ext cx="3133800" cy="1609920"/>
                    <a:chOff x="2011320" y="2187000"/>
                    <a:chExt cx="3133800" cy="16099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624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400" y="2990880"/>
                      <a:ext cx="1110600" cy="650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6280"/>
                    <a:ext cx="2937240" cy="1001160"/>
                    <a:chOff x="2167560" y="2096280"/>
                    <a:chExt cx="2937240" cy="100116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22280"/>
                      <a:ext cx="1903680" cy="38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3560" y="2427840"/>
                      <a:ext cx="102312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0760"/>
                    <a:ext cx="2658600" cy="447120"/>
                    <a:chOff x="2403720" y="203076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78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19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0280"/>
                    <a:ext cx="2364120" cy="787320"/>
                    <a:chOff x="2760480" y="152028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020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8840"/>
                      <a:ext cx="816120" cy="419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7320"/>
                    <a:ext cx="2323080" cy="1081440"/>
                    <a:chOff x="2887920" y="1237320"/>
                    <a:chExt cx="2323080" cy="108144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63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1240"/>
                      <a:ext cx="816120" cy="414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29080"/>
                    <a:ext cx="2169720" cy="1508400"/>
                    <a:chOff x="3161520" y="829080"/>
                    <a:chExt cx="2169720" cy="15084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1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096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4160"/>
                    <a:ext cx="1987200" cy="1831680"/>
                    <a:chOff x="3437640" y="434160"/>
                    <a:chExt cx="1987200" cy="183168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0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4200"/>
                      <a:ext cx="8283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0480"/>
                    <a:ext cx="1461600" cy="1890000"/>
                    <a:chOff x="4026960" y="330480"/>
                    <a:chExt cx="1461600" cy="18900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200" y="1442160"/>
                      <a:ext cx="1358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108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3920" cy="1947240"/>
                    <a:chOff x="4448160" y="245160"/>
                    <a:chExt cx="1123920" cy="194724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1480"/>
                      <a:ext cx="13089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8960"/>
                    <a:ext cx="2318760" cy="1113480"/>
                    <a:chOff x="5661720" y="948960"/>
                    <a:chExt cx="2318760" cy="111348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100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720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3880"/>
                    <a:ext cx="2201760" cy="1451880"/>
                    <a:chOff x="5529600" y="623880"/>
                    <a:chExt cx="2201760" cy="145188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77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8560"/>
                      <a:ext cx="8175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4840"/>
                    <a:ext cx="126576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6400"/>
                    <a:ext cx="68112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8200"/>
                    <a:ext cx="1194120" cy="1900440"/>
                    <a:chOff x="5355720" y="26820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5880"/>
                      <a:ext cx="131004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4200"/>
                      <a:ext cx="70272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9600" y="384840"/>
                    <a:ext cx="1890360" cy="1796040"/>
                    <a:chOff x="5349600" y="384840"/>
                    <a:chExt cx="189036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160" y="1384200"/>
                      <a:ext cx="14259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1400"/>
                      <a:ext cx="76716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520"/>
                    <a:ext cx="425160" cy="1796040"/>
                    <a:chOff x="5459040" y="290520"/>
                    <a:chExt cx="425160" cy="179604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600" y="1443960"/>
                      <a:ext cx="117648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0680" y="531720"/>
                      <a:ext cx="6314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280"/>
                    <a:ext cx="2193480" cy="3003480"/>
                    <a:chOff x="3063240" y="2528280"/>
                    <a:chExt cx="21934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480" y="3313080"/>
                      <a:ext cx="21279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49240"/>
                    <a:ext cx="1480320" cy="2999880"/>
                    <a:chOff x="3791520" y="2649240"/>
                    <a:chExt cx="14803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5720" y="3439800"/>
                      <a:ext cx="196740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88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699280"/>
                    <a:ext cx="875520" cy="2928240"/>
                    <a:chOff x="4507920" y="2699280"/>
                    <a:chExt cx="875520" cy="292824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360" y="3485880"/>
                      <a:ext cx="18885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68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1840"/>
                    <a:ext cx="2280600" cy="2952720"/>
                    <a:chOff x="5677920" y="24818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49360"/>
                      <a:ext cx="212652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7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960" y="2594520"/>
                    <a:ext cx="1756440" cy="3028320"/>
                    <a:chOff x="5646960" y="2594520"/>
                    <a:chExt cx="1756440" cy="302832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4280" y="3396240"/>
                      <a:ext cx="2032560" cy="368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480" y="4718880"/>
                      <a:ext cx="108900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080"/>
                    <a:ext cx="1228680" cy="2987280"/>
                    <a:chOff x="5576400" y="2710080"/>
                    <a:chExt cx="1228680" cy="298728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560" y="3541680"/>
                      <a:ext cx="19724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960" y="4881240"/>
                      <a:ext cx="105948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800"/>
                    <a:ext cx="696600" cy="2781360"/>
                    <a:chOff x="5521320" y="2836800"/>
                    <a:chExt cx="696600" cy="27813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3960"/>
                      <a:ext cx="181296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52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6120"/>
                    <a:ext cx="667440" cy="2716920"/>
                    <a:chOff x="4960800" y="2886120"/>
                    <a:chExt cx="667440" cy="271692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5280" y="3663360"/>
                      <a:ext cx="177228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640" y="4928760"/>
                      <a:ext cx="950760" cy="36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0400"/>
                <a:ext cx="6732720" cy="4523040"/>
                <a:chOff x="2174400" y="680400"/>
                <a:chExt cx="6732720" cy="45230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0400"/>
                  <a:ext cx="6732720" cy="4523040"/>
                  <a:chOff x="2174400" y="680400"/>
                  <a:chExt cx="6732720" cy="45230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5000"/>
                    <a:ext cx="3166560" cy="252504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080"/>
                    <a:ext cx="248688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9600"/>
                    <a:ext cx="1758240" cy="29358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000"/>
                    <a:ext cx="3133440" cy="29354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0400"/>
                    <a:ext cx="2282760" cy="284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4520"/>
                    <a:ext cx="940680" cy="284292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3400"/>
                    <a:ext cx="515160" cy="18795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79800"/>
                  <a:ext cx="546120" cy="103212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5760"/>
              <a:ext cx="6411960" cy="4709160"/>
              <a:chOff x="2343960" y="72576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828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3080"/>
                <a:ext cx="2617200" cy="2841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5520"/>
                <a:ext cx="153432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1760"/>
                <a:ext cx="293076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3960"/>
                <a:ext cx="46980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0280"/>
                <a:ext cx="123804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60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6064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7680"/>
                <a:ext cx="133848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11560"/>
                <a:ext cx="85824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21200"/>
                <a:ext cx="1242000" cy="19735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2328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5760"/>
                <a:ext cx="81900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7560"/>
                <a:ext cx="542880" cy="1032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103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52CF-91A9-4A70-B396-ADE585723926}" type="slidenum">
              <a:rPr b="0" lang="en-NZ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Comic Sans MS"/>
              </a:rPr>
              <a:t>Write the Answer </a:t>
            </a: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y does the </a:t>
            </a:r>
            <a:r>
              <a:rPr b="0" i="1" lang="en-GB" sz="3200" spc="-1" strike="noStrike" u="sng">
                <a:solidFill>
                  <a:srgbClr val="ffff00"/>
                </a:solidFill>
                <a:uFillTx/>
                <a:latin typeface="Comic Sans MS"/>
              </a:rPr>
              <a:t>rate of reaction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 increase for most reactions with an increase in temperature?</a:t>
            </a: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  <a:p>
            <a:pPr marL="426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I’m looking for at least 3 key ideas.</a:t>
            </a:r>
            <a:endParaRPr b="0" lang="en-US" sz="3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1586160" y="5516640"/>
            <a:ext cx="537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Arial Black"/>
              </a:rPr>
              <a:t>rate of reac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 Black"/>
              </a:rPr>
              <a:t>Get used to using this ter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e103"/>
                </a:solidFill>
                <a:latin typeface="Comic Sans MS"/>
              </a:rPr>
              <a:t>Conclusion</a:t>
            </a: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Write one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Answer the question in the aim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ccecff"/>
                </a:solidFill>
                <a:latin typeface="Comic Sans MS"/>
              </a:rPr>
              <a:t>As the surface area is increased the </a:t>
            </a:r>
            <a:br>
              <a:rPr sz="2800"/>
            </a:br>
            <a:r>
              <a:rPr b="0" lang="en-NZ" sz="2800" spc="-1" strike="noStrike" u="sng">
                <a:solidFill>
                  <a:srgbClr val="ccecff"/>
                </a:solidFill>
                <a:uFillTx/>
                <a:latin typeface="Comic Sans MS"/>
              </a:rPr>
              <a:t>rate of reaction</a:t>
            </a:r>
            <a:r>
              <a:rPr b="0" lang="en-NZ" sz="2800" spc="-1" strike="noStrike">
                <a:solidFill>
                  <a:srgbClr val="ccecff"/>
                </a:solidFill>
                <a:latin typeface="Comic Sans MS"/>
              </a:rPr>
              <a:t> increases.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66ff33"/>
                </a:solidFill>
                <a:latin typeface="Comic Sans MS"/>
              </a:rPr>
              <a:t>         </a:t>
            </a:r>
            <a:r>
              <a:rPr b="0" lang="en-NZ" sz="2000" spc="-1" strike="noStrike">
                <a:solidFill>
                  <a:srgbClr val="66ff33"/>
                </a:solidFill>
                <a:latin typeface="Comic Sans MS"/>
              </a:rPr>
              <a:t>(use that phrase)</a:t>
            </a:r>
            <a:endParaRPr b="0" lang="en-US" sz="20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ccecff"/>
                </a:solidFill>
                <a:latin typeface="Comic Sans MS"/>
              </a:rPr>
              <a:t>My hypothesis was right/wrong.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4"/>
          <p:cNvSpPr/>
          <p:nvPr/>
        </p:nvSpPr>
        <p:spPr>
          <a:xfrm>
            <a:off x="250920" y="189000"/>
            <a:ext cx="62658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33"/>
                </a:solidFill>
                <a:latin typeface="Comic Sans MS"/>
              </a:rPr>
              <a:t>Lets start with the scienc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33"/>
                </a:solidFill>
                <a:latin typeface="Comic Sans MS"/>
              </a:rPr>
              <a:t>Discuss…………………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Comic Sans MS"/>
              </a:rPr>
              <a:t>(remember that means more than one little sentence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33"/>
                </a:solidFill>
                <a:latin typeface="Comic Sans MS"/>
              </a:rPr>
              <a:t>Why the </a:t>
            </a:r>
            <a:r>
              <a:rPr b="0" lang="en-NZ" sz="2800" spc="-1" strike="noStrike" u="sng">
                <a:solidFill>
                  <a:srgbClr val="66ff33"/>
                </a:solidFill>
                <a:uFillTx/>
                <a:latin typeface="Comic Sans MS"/>
              </a:rPr>
              <a:t>rate of reaction</a:t>
            </a:r>
            <a:r>
              <a:rPr b="0" lang="en-NZ" sz="2800" spc="-1" strike="noStrike">
                <a:solidFill>
                  <a:srgbClr val="66ff33"/>
                </a:solidFill>
                <a:latin typeface="Comic Sans MS"/>
              </a:rPr>
              <a:t> increased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cc00"/>
                </a:solidFill>
                <a:latin typeface="Comic Sans MS"/>
              </a:rPr>
              <a:t>The smaller the size of the reacting </a:t>
            </a:r>
            <a:br>
              <a:rPr sz="2800"/>
            </a:br>
            <a:r>
              <a:rPr b="0" i="1" lang="en-NZ" sz="2800" spc="-1" strike="noStrike">
                <a:solidFill>
                  <a:srgbClr val="ffcc00"/>
                </a:solidFill>
                <a:latin typeface="Comic Sans MS"/>
              </a:rPr>
              <a:t>solid the faster the rate of the </a:t>
            </a:r>
            <a:br>
              <a:rPr sz="2800"/>
            </a:br>
            <a:r>
              <a:rPr b="0" i="1" lang="en-NZ" sz="2800" spc="-1" strike="noStrike">
                <a:solidFill>
                  <a:srgbClr val="ffcc00"/>
                </a:solidFill>
                <a:latin typeface="Comic Sans MS"/>
              </a:rPr>
              <a:t>reaction.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284400" indent="-28440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cc00"/>
                </a:solidFill>
                <a:latin typeface="Comic Sans MS"/>
              </a:rPr>
              <a:t>Cutting the tablet </a:t>
            </a:r>
            <a:r>
              <a:rPr b="1" i="1" lang="en-NZ" sz="2800" spc="-1" strike="noStrike" u="sng">
                <a:solidFill>
                  <a:srgbClr val="ffcc00"/>
                </a:solidFill>
                <a:uFillTx/>
                <a:latin typeface="Comic Sans MS"/>
              </a:rPr>
              <a:t>increases the surface area</a:t>
            </a:r>
            <a:r>
              <a:rPr b="0" i="1" lang="en-NZ" sz="2800" spc="-1" strike="noStrike">
                <a:solidFill>
                  <a:srgbClr val="ffcc00"/>
                </a:solidFill>
                <a:latin typeface="Comic Sans MS"/>
              </a:rPr>
              <a:t> of the tablet making it easier for the tablet particles to react with the HCl.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284400" indent="-28440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cc00"/>
                </a:solidFill>
                <a:latin typeface="Comic Sans MS"/>
              </a:rPr>
              <a:t>There was a larger chance of an </a:t>
            </a:r>
            <a:r>
              <a:rPr b="0" lang="en-NZ" sz="2800" spc="-1" strike="noStrike" u="sng">
                <a:solidFill>
                  <a:srgbClr val="ffcc00"/>
                </a:solidFill>
                <a:uFillTx/>
                <a:latin typeface="Comic Sans MS"/>
              </a:rPr>
              <a:t>effective collision</a:t>
            </a:r>
            <a:r>
              <a:rPr b="0" i="1" lang="en-NZ" sz="2800" spc="-1" strike="noStrike">
                <a:solidFill>
                  <a:srgbClr val="ffcc00"/>
                </a:solidFill>
                <a:latin typeface="Comic Sans MS"/>
              </a:rPr>
              <a:t>, with  </a:t>
            </a:r>
            <a:r>
              <a:rPr b="0" lang="en-NZ" sz="2800" spc="-1" strike="noStrike" u="sng">
                <a:solidFill>
                  <a:srgbClr val="ffcc00"/>
                </a:solidFill>
                <a:uFillTx/>
                <a:latin typeface="Comic Sans MS"/>
              </a:rPr>
              <a:t>sufficient energy</a:t>
            </a:r>
            <a:r>
              <a:rPr b="0" i="1" lang="en-NZ" sz="2800" spc="-1" strike="noStrike">
                <a:solidFill>
                  <a:srgbClr val="ffcc00"/>
                </a:solidFill>
                <a:latin typeface="Comic Sans MS"/>
              </a:rPr>
              <a:t> and </a:t>
            </a:r>
            <a:r>
              <a:rPr b="0" lang="en-NZ" sz="2800" spc="-1" strike="noStrike" u="sng">
                <a:solidFill>
                  <a:srgbClr val="ffcc00"/>
                </a:solidFill>
                <a:uFillTx/>
                <a:latin typeface="Comic Sans MS"/>
              </a:rPr>
              <a:t>favourable orientation</a:t>
            </a:r>
            <a:r>
              <a:rPr b="0" i="1" lang="en-NZ" sz="2800" spc="-1" strike="noStrike">
                <a:solidFill>
                  <a:srgbClr val="ffcc00"/>
                </a:solidFill>
                <a:latin typeface="Comic Sans MS"/>
              </a:rPr>
              <a:t> between the tablet and hydrochloric acid particles when the tablet had a larger surface area. 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66ff33"/>
                </a:solidFill>
                <a:latin typeface="Comic Sans MS"/>
              </a:rPr>
              <a:t>Now the Fun Begins</a:t>
            </a: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9280" y="5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ffcc00"/>
                </a:solidFill>
                <a:uFillTx/>
                <a:latin typeface="Comic Sans MS"/>
              </a:rPr>
              <a:t>This is for Excellence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243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And…………… Its all or nothing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243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Comic Sans MS"/>
            </a:endParaRPr>
          </a:p>
          <a:p>
            <a:pPr marL="243360" indent="-24336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You need to write a ‘Discussion’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243360" indent="-24336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This involves 3 parts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243360" indent="-24336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ff"/>
                </a:solidFill>
                <a:latin typeface="Comic Sans MS"/>
              </a:rPr>
              <a:t>-The Science involved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243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Comic Sans MS"/>
            </a:endParaRPr>
          </a:p>
          <a:p>
            <a:pPr marL="24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33"/>
                </a:solidFill>
                <a:latin typeface="Comic Sans MS"/>
              </a:rPr>
              <a:t>             </a:t>
            </a:r>
            <a:r>
              <a:rPr b="0" lang="en-NZ" sz="2800" spc="-1" strike="noStrike" u="sng">
                <a:solidFill>
                  <a:srgbClr val="66ff33"/>
                </a:solidFill>
                <a:uFillTx/>
                <a:latin typeface="Comic Sans MS"/>
              </a:rPr>
              <a:t>Evaluation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243360" indent="-24336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ff"/>
                </a:solidFill>
                <a:latin typeface="Comic Sans MS"/>
              </a:rPr>
              <a:t>-How the investigation could be or was improved</a:t>
            </a:r>
            <a:br>
              <a:rPr sz="2800"/>
            </a:br>
            <a:r>
              <a:rPr b="0" lang="en-NZ" sz="2800" spc="-1" strike="noStrike">
                <a:solidFill>
                  <a:srgbClr val="ffccff"/>
                </a:solidFill>
                <a:latin typeface="Comic Sans MS"/>
              </a:rPr>
              <a:t>and why is the method valid(sound)?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24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243360" indent="-24336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ff"/>
                </a:solidFill>
                <a:latin typeface="Comic Sans MS"/>
              </a:rPr>
              <a:t>-Why are your results reliable?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24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907560"/>
            <a:ext cx="7342200" cy="3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ff99"/>
                </a:solidFill>
                <a:latin typeface="Comic Sans MS"/>
              </a:rPr>
              <a:t>Method:  Changes + reasons</a:t>
            </a:r>
            <a:br>
              <a:rPr sz="2800"/>
            </a:br>
            <a:r>
              <a:rPr b="1" i="1" lang="en-NZ" sz="2800" spc="-1" strike="noStrike">
                <a:solidFill>
                  <a:srgbClr val="66ff33"/>
                </a:solidFill>
                <a:latin typeface="Comic Sans MS"/>
              </a:rPr>
              <a:t>OR</a:t>
            </a:r>
            <a:br>
              <a:rPr sz="2800"/>
            </a:br>
            <a:r>
              <a:rPr b="1" i="1" lang="en-NZ" sz="2800" spc="-1" strike="noStrike">
                <a:solidFill>
                  <a:srgbClr val="66ff33"/>
                </a:solidFill>
                <a:latin typeface="Comic Sans MS"/>
              </a:rPr>
              <a:t>Improvements + reasons</a:t>
            </a:r>
            <a:endParaRPr b="1" lang="en-US" sz="28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ff00"/>
                </a:solidFill>
                <a:latin typeface="Comic Sans MS"/>
              </a:rPr>
              <a:t>Eg: The reaction should have been done in a water bath to keep the temperature constant. The faster reactions could have released significant heat thus speeding up the reaction.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764640"/>
            <a:ext cx="7342200" cy="3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ffffff"/>
                </a:solidFill>
                <a:latin typeface="Comic Sans MS"/>
              </a:rPr>
              <a:t>Method:  Changes + reasons</a:t>
            </a:r>
            <a:br>
              <a:rPr sz="2800"/>
            </a:br>
            <a:r>
              <a:rPr b="1" i="1" lang="en-NZ" sz="2800" spc="-1" strike="noStrike">
                <a:solidFill>
                  <a:srgbClr val="ffffff"/>
                </a:solidFill>
                <a:latin typeface="Comic Sans MS"/>
              </a:rPr>
              <a:t>OR</a:t>
            </a:r>
            <a:br>
              <a:rPr sz="2800"/>
            </a:br>
            <a:r>
              <a:rPr b="1" i="1" lang="en-NZ" sz="2800" spc="-1" strike="noStrike">
                <a:solidFill>
                  <a:srgbClr val="ffffff"/>
                </a:solidFill>
                <a:latin typeface="Comic Sans MS"/>
              </a:rPr>
              <a:t>Improvements + reasons</a:t>
            </a:r>
            <a:endParaRPr b="1" lang="en-US" sz="28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12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ff00"/>
                </a:solidFill>
                <a:latin typeface="Comic Sans MS"/>
              </a:rPr>
              <a:t>Eg: One of my results for the ½ tablet was really quick compared to the other two. I think I may have measured the wrong mass of tablet or time to react. So I repeated the test again and left the unusual result out of my processing.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692280"/>
            <a:ext cx="7342200" cy="3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ffffff"/>
                </a:solidFill>
                <a:latin typeface="Comic Sans MS"/>
              </a:rPr>
              <a:t>Method:  Changes + reasons</a:t>
            </a:r>
            <a:br>
              <a:rPr sz="2800"/>
            </a:br>
            <a:r>
              <a:rPr b="1" i="1" lang="en-NZ" sz="2800" spc="-1" strike="noStrike">
                <a:solidFill>
                  <a:srgbClr val="ffffff"/>
                </a:solidFill>
                <a:latin typeface="Comic Sans MS"/>
              </a:rPr>
              <a:t>OR</a:t>
            </a:r>
            <a:br>
              <a:rPr sz="2800"/>
            </a:br>
            <a:r>
              <a:rPr b="1" i="1" lang="en-NZ" sz="2800" spc="-1" strike="noStrike">
                <a:solidFill>
                  <a:srgbClr val="ffffff"/>
                </a:solidFill>
                <a:latin typeface="Comic Sans MS"/>
              </a:rPr>
              <a:t>Improvements + reasons</a:t>
            </a:r>
            <a:endParaRPr b="1" lang="en-US" sz="28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ff00"/>
                </a:solidFill>
                <a:latin typeface="Comic Sans MS"/>
              </a:rPr>
              <a:t>Eg: Loss of mass as powder when cutting the tablets was a problem SO to ensure this was a fair test I cut the tablet on paper to avoid loss of mass.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66ff33"/>
                </a:solidFill>
                <a:uFillTx/>
                <a:latin typeface="Comic Sans MS"/>
              </a:rPr>
              <a:t>Validity </a:t>
            </a:r>
            <a:r>
              <a:rPr b="1" lang="en-NZ" sz="3200" spc="-1" strike="noStrike">
                <a:solidFill>
                  <a:srgbClr val="66ff33"/>
                </a:solidFill>
                <a:latin typeface="Comic Sans MS"/>
              </a:rPr>
              <a:t>(soundness) of method</a:t>
            </a: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My method can be trusted because………………………………………………………………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Consistent gear and judgement of the end point, repeated each trial,……………………….. </a:t>
            </a:r>
            <a:br>
              <a:rPr sz="2800"/>
            </a:br>
            <a:r>
              <a:rPr b="0" lang="en-NZ" sz="2800" spc="-1" strike="noStrike">
                <a:solidFill>
                  <a:srgbClr val="66ff33"/>
                </a:solidFill>
                <a:latin typeface="Comic Sans MS"/>
              </a:rPr>
              <a:t>add some of your own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-684360" y="33300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ffffff"/>
                </a:solidFill>
                <a:uFillTx/>
                <a:latin typeface="Comic Sans MS"/>
              </a:rPr>
              <a:t>Reliability (</a:t>
            </a:r>
            <a:r>
              <a:rPr b="1" lang="en-NZ" sz="2800" spc="-1" strike="noStrike">
                <a:solidFill>
                  <a:srgbClr val="ffffff"/>
                </a:solidFill>
                <a:latin typeface="Comic Sans MS"/>
              </a:rPr>
              <a:t>reproducibility) of data</a:t>
            </a:r>
            <a:br>
              <a:rPr sz="2800"/>
            </a:br>
            <a:endParaRPr b="1" lang="en-US" sz="28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My results can be </a:t>
            </a:r>
            <a:r>
              <a:rPr b="1" i="1" lang="en-NZ" sz="2800" spc="-1" strike="noStrike" u="sng">
                <a:solidFill>
                  <a:srgbClr val="ffff00"/>
                </a:solidFill>
                <a:uFillTx/>
                <a:latin typeface="Comic Sans MS"/>
              </a:rPr>
              <a:t>trusted</a:t>
            </a: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 because……………………………………………………………….</a:t>
            </a:r>
            <a:r>
              <a:rPr b="0" lang="en-NZ" sz="28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Consistent results on multiple trials, (except for …………. Which we re-ran and…………….)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66ff33"/>
                </a:solidFill>
                <a:latin typeface="Comic Sans MS"/>
              </a:rPr>
              <a:t>“</a:t>
            </a:r>
            <a:r>
              <a:rPr b="1" lang="en-NZ" sz="3200" spc="-1" strike="noStrike">
                <a:solidFill>
                  <a:srgbClr val="66ff33"/>
                </a:solidFill>
                <a:latin typeface="Comic Sans MS"/>
              </a:rPr>
              <a:t>One lump or two?”</a:t>
            </a: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Comic Sans MS"/>
              </a:rPr>
              <a:t>Background Information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You have been employed as a chemist by a pharmaceutical company to investigate the rate at which their pain relief tablets react. 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66ff33"/>
                </a:solidFill>
                <a:latin typeface="Comic Sans MS"/>
              </a:rPr>
              <a:t>“</a:t>
            </a:r>
            <a:r>
              <a:rPr b="1" lang="en-NZ" sz="3200" spc="-1" strike="noStrike">
                <a:solidFill>
                  <a:srgbClr val="66ff33"/>
                </a:solidFill>
                <a:latin typeface="Comic Sans MS"/>
              </a:rPr>
              <a:t>One lump or two?”</a:t>
            </a: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Comic Sans MS"/>
              </a:rPr>
              <a:t>Background Information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n this investigation you are to develop and carry out an investigation. You will plan, collect, process and interpret information, and present a report on the effect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Comic Sans MS"/>
              </a:rPr>
              <a:t>surface area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on the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rate of a reaction.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This investigation is a 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air test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 investigation.</a:t>
            </a: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66ff33"/>
                </a:solidFill>
                <a:latin typeface="Comic Sans MS"/>
              </a:rPr>
              <a:t>Got That?</a:t>
            </a: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Comic Sans MS"/>
              </a:rPr>
              <a:t>First write an Aim and Hypothesis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783000" y="4577040"/>
            <a:ext cx="6784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ypothesis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What effect does </a:t>
            </a:r>
            <a:r>
              <a:rPr b="0" i="1" lang="en-NZ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surface area </a:t>
            </a:r>
            <a:r>
              <a:rPr b="0" i="1" lang="en-NZ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have on the</a:t>
            </a:r>
            <a:br>
              <a:rPr sz="2800"/>
            </a:br>
            <a:r>
              <a:rPr b="0" i="1" lang="en-NZ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i="1" lang="en-NZ" sz="28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rate of a reaction</a:t>
            </a:r>
            <a:r>
              <a:rPr b="0" i="1" lang="en-NZ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?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857160" y="2648160"/>
            <a:ext cx="700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i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o investigate how surface area affects the rate of reac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Write down the dependant and independent</a:t>
            </a:r>
            <a:br>
              <a:rPr sz="2800"/>
            </a:b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variable.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How will they be measured and controlled?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Controlled  variables – what are they and how are you going to control them?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Time to write a method easily understood by a student in another class.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Include steps and diagram.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e103"/>
                </a:solidFill>
                <a:latin typeface="Comic Sans MS"/>
              </a:rPr>
              <a:t>Method</a:t>
            </a: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-360" y="692280"/>
            <a:ext cx="849636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Do you have a large labeled diagram? (not a small scribble)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Have you specified how much acid is being used?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Have you said how the tablet is to be cut?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How is the temperature being kept constant?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Did you indicate the investigation should be repeated at least 3 times, with each tablet surface area?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How is the end point of the reaction determined?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Is the method written in numbered steps?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e103"/>
                </a:solidFill>
                <a:latin typeface="Comic Sans MS"/>
              </a:rPr>
              <a:t>Results</a:t>
            </a: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Powdered    3.8s , 3.3s, 4.1s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Eighths      15.4s, 15.5s, 21.2s 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Quartered  22.3s, 23.9s, 21.7s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Halved      32.4s, 30.0s, 34.1s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1 whole     42.0s , 44.0s, 41.8s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Put these results in a proper scientific table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66ff33"/>
                </a:solidFill>
                <a:latin typeface="Comic Sans MS"/>
              </a:rPr>
              <a:t>What are you going to do with the results now?</a:t>
            </a: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What are you going to do with the vastly different result in the eighths split?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Average 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Graph the average not all results.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e103"/>
                </a:solidFill>
                <a:latin typeface="Comic Sans MS"/>
              </a:rPr>
              <a:t>Interpretation</a:t>
            </a:r>
            <a:endParaRPr b="1" lang="en-US" sz="3200" spc="-1" strike="noStrike">
              <a:solidFill>
                <a:srgbClr val="ffe103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Comic Sans MS"/>
              </a:rPr>
              <a:t>What is the graph telling you?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33"/>
                </a:solidFill>
                <a:latin typeface="Comic Sans MS"/>
              </a:rPr>
              <a:t>As the surface area of the tablet increases the rate of reaction increases</a:t>
            </a:r>
            <a:r>
              <a:rPr b="0" lang="en-NZ" sz="2800" spc="-1" strike="noStrike">
                <a:solidFill>
                  <a:srgbClr val="fe1f08"/>
                </a:solidFill>
                <a:latin typeface="Comic Sans MS"/>
              </a:rPr>
              <a:t>. </a:t>
            </a:r>
            <a:br>
              <a:rPr sz="2800"/>
            </a:br>
            <a:r>
              <a:rPr b="0" lang="en-NZ" sz="2800" spc="-1" strike="noStrike">
                <a:solidFill>
                  <a:srgbClr val="fe1f08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istry of Education</cp:lastModifiedBy>
  <dcterms:modified xsi:type="dcterms:W3CDTF">2010-03-16T20:16:08Z</dcterms:modified>
  <cp:revision>39</cp:revision>
  <dc:subject/>
  <dc:title>PowerPoint Presentation</dc:title>
</cp:coreProperties>
</file>